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8F9EF-C000-4FD7-B904-124429C4E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237D3-099E-41BD-8914-B98C6D1CE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30B2A-3066-4EDA-A75E-2B5A95A57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966C7-1562-4E25-B4C0-EC9F5EF21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CFD1B-8091-4C16-8280-E80F00914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671BD-D4A8-4F46-AE9C-043FC7002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B2C4C-9441-48D8-9C0C-DB338300C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C2202-A422-4D06-9585-4A9BEA9C4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BC839-241F-4E1F-82AC-CEDE01754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79FEB-2487-4336-B178-4B877BB55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14E3B-0960-478B-9135-B9F9D6F50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3BB01-9FA9-4C60-B09C-953C2DBD1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39BF8-F965-47DF-A40D-F8BBB1C12D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Line 6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7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9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0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1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2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feld 1"/>
          <p:cNvSpPr/>
          <p:nvPr/>
        </p:nvSpPr>
        <p:spPr>
          <a:xfrm>
            <a:off x="503280" y="368280"/>
            <a:ext cx="75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used in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ica.Mechanics.MultiBody.Examples.Loops.PlanarLoops_analy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Otter, Martin</cp:lastModifiedBy>
  <dcterms:modified xsi:type="dcterms:W3CDTF">2012-10-06T04:39:44Z</dcterms:modified>
  <cp:revision>2</cp:revision>
  <dc:subject/>
  <dc:title>Folie 1</dc:title>
</cp:coreProperties>
</file>